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6E8-6921-4B6A-BB16-EEFB72AE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295-E529-4C48-87DE-F5A8CC13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0FA-B101-45CC-9CED-38D3F902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C4E-3CD6-4BF0-952F-B249706C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434-4D29-4247-A2AE-FDD2B69D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92C-5BFA-405A-B037-05E8AE86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DBE-FF61-4E7F-AA1D-687AA952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562-9513-4B23-A715-F2432BFB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B26-D3F6-489B-897F-90A91135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E05-8A35-47F0-87B6-0828B556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764-A75D-40C2-A9F8-9E156E63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F35-3B46-4F51-9D18-43E8D4A6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6F4-FF4B-40AF-863A-5D71DFC9C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pauw.edu/photos/PhotoDB_Repository/2007/8/Barack%2520Obama%2520Capitol.jpg&amp;imgrefurl=http://motherspirit1.blogspot.com/2008/06/obama-clinches-democratic-nomination.html&amp;h=1000&amp;w=800&amp;sz=188&amp;hl=en&amp;start=20&amp;um=1&amp;tbnid=Kk2YHg2QDSqz6M:&amp;tbnh=149&amp;tbnw=119&amp;prev=/images%3Fq%3Dobama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ibabuzz.com/politics/wp-content/uploads/2007/03/mccain.jpg&amp;imgrefurl=http://www.ibabuzz.com/politics/2008/02/07/john-mccains-speech-to-cpac/&amp;h=4992&amp;w=3328&amp;sz=4495&amp;hl=en&amp;start=3&amp;um=1&amp;tbnid=zQd8yVcgf4qYZM:&amp;tbnh=150&amp;tbnw=100&amp;prev=/images%3Fq%3DMccain%26um%3D1%26hl%3De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137124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 do you want to be President?</a:t>
            </a:r>
            <a:br>
              <a:rPr sz="36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ial Ele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362320"/>
            <a:ext cx="121788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2362320"/>
            <a:ext cx="101592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4120" y="243828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6160" y="2438280"/>
            <a:ext cx="131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You Decide Maybe You Should Find Out More About the President’s Jo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leader of one of the world’s most powerful countries, the presid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military as commander in chief of the arm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e treaties, or agreements with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 Supreme Court justices and other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new laws and signs them into legislation when Congress passe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veto bill that Congress p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s ambassadors to other countries and sets foreign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decide how much money the government will spend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s the heads of, and helps run, the government’s many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37124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2360" y="685800"/>
            <a:ext cx="69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o we 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President of the United St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552760" cy="2271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5120" y="4876920"/>
            <a:ext cx="53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a process known a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orial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37124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one have to do to become President?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1419120" cy="1162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3600" y="3352680"/>
            <a:ext cx="2743200" cy="183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2133720" cy="185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9440" y="42670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for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 Before You Vo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race yourself with the power an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bout our past presidents, what it takes to become president or stories about those who would like to be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Read All About I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1182600" cy="15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66840" cy="1689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295280" y="5430960"/>
            <a:ext cx="1069920" cy="1427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05720" y="5254560"/>
            <a:ext cx="1203120" cy="160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57200" y="3276720"/>
            <a:ext cx="1428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Presentation Has Been Brought to You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y Those with the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Those Who Rea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s were taken from the following books and used for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n’t Know Much About the Presi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Kenneth C. Davis and Illustrated by Pedro Martin, Harper Collins Publishers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ace for Presi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Kelly DiPucchio and Illustrated by LeUyen Pham, Hyperion Books for Children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ck for Presi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Doreen Cronin and Illustrated by Betsy Lewin, Atheneum Books for Young Readers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 You Want to Be President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Judith St. George and Illustrated by David Small, Philomel Books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History of the American Presid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John Bowman, World Publications Group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1:18:38Z</dcterms:created>
  <dc:creator>Stephanie Sproul</dc:creator>
  <dc:description/>
  <dc:language>en-US</dc:language>
  <cp:lastModifiedBy>Stephanie Sproul</cp:lastModifiedBy>
  <dcterms:modified xsi:type="dcterms:W3CDTF">2008-07-21T19:33:26Z</dcterms:modified>
  <cp:revision>5</cp:revision>
  <dc:subject/>
  <dc:title>Congratulations!    GES Class   of 2008</dc:title>
</cp:coreProperties>
</file>